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5EC-B7F8-47AE-AEE7-F124444D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D5C-D6DC-402E-8BED-CD0CEC63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14F-9D07-4003-836D-A5F161DA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F01-4A2F-4FC9-8D3F-6E0BF8B4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1EA-86BA-4C9E-B236-E20F7BC3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FDA-8C9E-47AF-A93E-96B1D93D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4D8-8A29-47CB-AD8A-62850163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BB5-82C1-4099-8318-F6F87C29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DAF-DCFE-4550-8B32-F8E22F93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255-5080-4348-8F52-C1A6763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133-41B6-4130-B6F9-AACFA399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300-7F08-40E4-8E72-983FD426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8E0-B88F-4791-999C-CBBE49F1D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62320" y="2286000"/>
            <a:ext cx="430524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 in Rus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457200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emilia Kapica, Nina Luu, Kevin Do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419112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47920" y="533520"/>
            <a:ext cx="61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d about land in Rus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s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for planting c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228600"/>
            <a:ext cx="853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the Russian people adapted to the bad l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52280"/>
            <a:ext cx="876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me good things about the land in Rus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4:02:06Z</dcterms:created>
  <dc:creator>QPS</dc:creator>
  <dc:description/>
  <dc:language>en-US</dc:language>
  <cp:lastModifiedBy>QPS</cp:lastModifiedBy>
  <dcterms:modified xsi:type="dcterms:W3CDTF">2010-04-21T04:32:23Z</dcterms:modified>
  <cp:revision>2</cp:revision>
  <dc:subject/>
  <dc:title>Slide 1</dc:title>
</cp:coreProperties>
</file>